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7297560" y="6519960"/>
            <a:ext cx="187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a4c69"/>
                </a:solidFill>
                <a:latin typeface="Arial"/>
              </a:rPr>
              <a:t>Oxford University Press España, S.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174080" y="651816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4c69"/>
                </a:solidFill>
                <a:latin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3160" y="6622920"/>
            <a:ext cx="89352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3160" y="6645240"/>
            <a:ext cx="89352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564000" y="6624720"/>
            <a:ext cx="360036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564000" y="6643800"/>
            <a:ext cx="360036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68120" y="830160"/>
            <a:ext cx="8834760" cy="5448240"/>
          </a:xfrm>
          <a:prstGeom prst="roundRect">
            <a:avLst>
              <a:gd name="adj" fmla="val 1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2633760" y="6154560"/>
            <a:ext cx="66600" cy="954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652480" y="6094440"/>
            <a:ext cx="40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ESIONE LA BARRA ESPACIADORA PARA AVANZAR EN LOS CONTENI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7783560" y="264960"/>
            <a:ext cx="1074600" cy="5000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6"/>
          <a:stretch/>
        </p:blipFill>
        <p:spPr>
          <a:xfrm>
            <a:off x="1158840" y="6488280"/>
            <a:ext cx="2333520" cy="27612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2400" y="302400"/>
            <a:ext cx="415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L APARATO REPRODUCTOR MASCULI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14480" y="1162080"/>
            <a:ext cx="5394240" cy="4788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2491920" y="1090440"/>
            <a:ext cx="462600" cy="576000"/>
            <a:chOff x="2491920" y="1090440"/>
            <a:chExt cx="462600" cy="576000"/>
          </a:xfrm>
        </p:grpSpPr>
        <p:sp>
          <p:nvSpPr>
            <p:cNvPr id="54" name=""/>
            <p:cNvSpPr/>
            <p:nvPr/>
          </p:nvSpPr>
          <p:spPr>
            <a:xfrm>
              <a:off x="2491920" y="109044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2562120" y="13060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663200" y="2611440"/>
            <a:ext cx="969840" cy="246240"/>
            <a:chOff x="1663200" y="2611440"/>
            <a:chExt cx="969840" cy="246240"/>
          </a:xfrm>
        </p:grpSpPr>
        <p:sp>
          <p:nvSpPr>
            <p:cNvPr id="57" name=""/>
            <p:cNvSpPr/>
            <p:nvPr/>
          </p:nvSpPr>
          <p:spPr>
            <a:xfrm>
              <a:off x="1663200" y="26114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985400" y="27464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218120" y="2459160"/>
            <a:ext cx="1531440" cy="246240"/>
            <a:chOff x="4218120" y="2459160"/>
            <a:chExt cx="1531440" cy="246240"/>
          </a:xfrm>
        </p:grpSpPr>
        <p:sp>
          <p:nvSpPr>
            <p:cNvPr id="60" name=""/>
            <p:cNvSpPr/>
            <p:nvPr/>
          </p:nvSpPr>
          <p:spPr>
            <a:xfrm>
              <a:off x="4433400" y="2459160"/>
              <a:ext cx="131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erpos caverno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18120" y="260208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498480" y="1265400"/>
            <a:ext cx="2948400" cy="2559600"/>
            <a:chOff x="3498480" y="1265400"/>
            <a:chExt cx="2948400" cy="2559600"/>
          </a:xfrm>
        </p:grpSpPr>
        <p:grpSp>
          <p:nvGrpSpPr>
            <p:cNvPr id="63" name=""/>
            <p:cNvGrpSpPr/>
            <p:nvPr/>
          </p:nvGrpSpPr>
          <p:grpSpPr>
            <a:xfrm>
              <a:off x="3498480" y="1265400"/>
              <a:ext cx="1163880" cy="688320"/>
              <a:chOff x="3498480" y="1265400"/>
              <a:chExt cx="1163880" cy="688320"/>
            </a:xfrm>
          </p:grpSpPr>
          <p:sp>
            <p:nvSpPr>
              <p:cNvPr id="64" name=""/>
              <p:cNvSpPr/>
              <p:nvPr/>
            </p:nvSpPr>
            <p:spPr>
              <a:xfrm>
                <a:off x="3696840" y="1265400"/>
                <a:ext cx="965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ejiga urina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3498480" y="1450800"/>
                <a:ext cx="360360" cy="50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481360" y="3149640"/>
              <a:ext cx="965520" cy="675360"/>
              <a:chOff x="5481360" y="3149640"/>
              <a:chExt cx="965520" cy="675360"/>
            </a:xfrm>
          </p:grpSpPr>
          <p:sp>
            <p:nvSpPr>
              <p:cNvPr id="67" name=""/>
              <p:cNvSpPr/>
              <p:nvPr/>
            </p:nvSpPr>
            <p:spPr>
              <a:xfrm>
                <a:off x="5481360" y="3149640"/>
                <a:ext cx="965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ejiga urina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802120" y="3393720"/>
                <a:ext cx="0" cy="43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4723920" y="3609360"/>
            <a:ext cx="574920" cy="246240"/>
            <a:chOff x="4723920" y="3609360"/>
            <a:chExt cx="574920" cy="246240"/>
          </a:xfrm>
        </p:grpSpPr>
        <p:sp>
          <p:nvSpPr>
            <p:cNvPr id="70" name=""/>
            <p:cNvSpPr/>
            <p:nvPr/>
          </p:nvSpPr>
          <p:spPr>
            <a:xfrm>
              <a:off x="4723920" y="3609360"/>
              <a:ext cx="51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é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54480" y="37544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851200" y="1090440"/>
            <a:ext cx="2735280" cy="3186360"/>
            <a:chOff x="2851200" y="1090440"/>
            <a:chExt cx="2735280" cy="3186360"/>
          </a:xfrm>
        </p:grpSpPr>
        <p:grpSp>
          <p:nvGrpSpPr>
            <p:cNvPr id="73" name=""/>
            <p:cNvGrpSpPr/>
            <p:nvPr/>
          </p:nvGrpSpPr>
          <p:grpSpPr>
            <a:xfrm>
              <a:off x="2851200" y="1090440"/>
              <a:ext cx="856440" cy="1008000"/>
              <a:chOff x="2851200" y="1090440"/>
              <a:chExt cx="856440" cy="1008000"/>
            </a:xfrm>
          </p:grpSpPr>
          <p:sp>
            <p:nvSpPr>
              <p:cNvPr id="74" name=""/>
              <p:cNvSpPr/>
              <p:nvPr/>
            </p:nvSpPr>
            <p:spPr>
              <a:xfrm>
                <a:off x="3026880" y="1090440"/>
                <a:ext cx="680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esícula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mi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2851200" y="1450800"/>
                <a:ext cx="43200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3211560" y="4030560"/>
              <a:ext cx="2374920" cy="246240"/>
              <a:chOff x="3211560" y="4030560"/>
              <a:chExt cx="2374920" cy="246240"/>
            </a:xfrm>
          </p:grpSpPr>
          <p:sp>
            <p:nvSpPr>
              <p:cNvPr id="77" name=""/>
              <p:cNvSpPr/>
              <p:nvPr/>
            </p:nvSpPr>
            <p:spPr>
              <a:xfrm>
                <a:off x="3211560" y="4030560"/>
                <a:ext cx="13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esículas seminal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4507200" y="418608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3209400" y="1998720"/>
            <a:ext cx="2390040" cy="2440080"/>
            <a:chOff x="3209400" y="1998720"/>
            <a:chExt cx="2390040" cy="2440080"/>
          </a:xfrm>
        </p:grpSpPr>
        <p:grpSp>
          <p:nvGrpSpPr>
            <p:cNvPr id="80" name=""/>
            <p:cNvGrpSpPr/>
            <p:nvPr/>
          </p:nvGrpSpPr>
          <p:grpSpPr>
            <a:xfrm>
              <a:off x="4002120" y="1998720"/>
              <a:ext cx="1597320" cy="246240"/>
              <a:chOff x="4002120" y="1998720"/>
              <a:chExt cx="1597320" cy="246240"/>
            </a:xfrm>
          </p:grpSpPr>
          <p:sp>
            <p:nvSpPr>
              <p:cNvPr id="81" name=""/>
              <p:cNvSpPr/>
              <p:nvPr/>
            </p:nvSpPr>
            <p:spPr>
              <a:xfrm>
                <a:off x="4336560" y="1998720"/>
                <a:ext cx="126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nducto deferen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002120" y="214452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209400" y="4192560"/>
              <a:ext cx="2089440" cy="246240"/>
              <a:chOff x="3209400" y="4192560"/>
              <a:chExt cx="2089440" cy="246240"/>
            </a:xfrm>
          </p:grpSpPr>
          <p:sp>
            <p:nvSpPr>
              <p:cNvPr id="84" name=""/>
              <p:cNvSpPr/>
              <p:nvPr/>
            </p:nvSpPr>
            <p:spPr>
              <a:xfrm>
                <a:off x="3209400" y="4192560"/>
                <a:ext cx="126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nducto deferen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433760" y="4330440"/>
                <a:ext cx="86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3282840" y="2214720"/>
            <a:ext cx="2519280" cy="2378160"/>
            <a:chOff x="3282840" y="2214720"/>
            <a:chExt cx="2519280" cy="2378160"/>
          </a:xfrm>
        </p:grpSpPr>
        <p:grpSp>
          <p:nvGrpSpPr>
            <p:cNvPr id="87" name=""/>
            <p:cNvGrpSpPr/>
            <p:nvPr/>
          </p:nvGrpSpPr>
          <p:grpSpPr>
            <a:xfrm>
              <a:off x="3282840" y="2214720"/>
              <a:ext cx="1705320" cy="246240"/>
              <a:chOff x="3282840" y="2214720"/>
              <a:chExt cx="1705320" cy="24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350240" y="2214720"/>
                <a:ext cx="63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óst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282840" y="2386080"/>
                <a:ext cx="10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3880440" y="4346640"/>
              <a:ext cx="1921680" cy="246240"/>
              <a:chOff x="3880440" y="4346640"/>
              <a:chExt cx="1921680" cy="246240"/>
            </a:xfrm>
          </p:grpSpPr>
          <p:sp>
            <p:nvSpPr>
              <p:cNvPr id="91" name=""/>
              <p:cNvSpPr/>
              <p:nvPr/>
            </p:nvSpPr>
            <p:spPr>
              <a:xfrm>
                <a:off x="3880440" y="4346640"/>
                <a:ext cx="63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óst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06840" y="447480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3140640" y="4656240"/>
            <a:ext cx="2661120" cy="246240"/>
            <a:chOff x="3140640" y="4656240"/>
            <a:chExt cx="2661120" cy="246240"/>
          </a:xfrm>
        </p:grpSpPr>
        <p:sp>
          <p:nvSpPr>
            <p:cNvPr id="94" name=""/>
            <p:cNvSpPr/>
            <p:nvPr/>
          </p:nvSpPr>
          <p:spPr>
            <a:xfrm>
              <a:off x="3140640" y="4656240"/>
              <a:ext cx="136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ándulas de Cow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4433400" y="4762080"/>
              <a:ext cx="136836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990960" y="3538440"/>
            <a:ext cx="1955880" cy="1546560"/>
            <a:chOff x="3990960" y="3538440"/>
            <a:chExt cx="1955880" cy="1546560"/>
          </a:xfrm>
        </p:grpSpPr>
        <p:grpSp>
          <p:nvGrpSpPr>
            <p:cNvPr id="97" name=""/>
            <p:cNvGrpSpPr/>
            <p:nvPr/>
          </p:nvGrpSpPr>
          <p:grpSpPr>
            <a:xfrm>
              <a:off x="4076640" y="3538440"/>
              <a:ext cx="511560" cy="317520"/>
              <a:chOff x="4076640" y="3538440"/>
              <a:chExt cx="511560" cy="317520"/>
            </a:xfrm>
          </p:grpSpPr>
          <p:sp>
            <p:nvSpPr>
              <p:cNvPr id="98" name=""/>
              <p:cNvSpPr/>
              <p:nvPr/>
            </p:nvSpPr>
            <p:spPr>
              <a:xfrm>
                <a:off x="4076640" y="360972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etr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18120" y="35384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990960" y="4838760"/>
              <a:ext cx="1955880" cy="246240"/>
              <a:chOff x="3990960" y="4838760"/>
              <a:chExt cx="1955880" cy="246240"/>
            </a:xfrm>
          </p:grpSpPr>
          <p:sp>
            <p:nvSpPr>
              <p:cNvPr id="101" name=""/>
              <p:cNvSpPr/>
              <p:nvPr/>
            </p:nvSpPr>
            <p:spPr>
              <a:xfrm>
                <a:off x="3990960" y="483876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etr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34120" y="4978440"/>
                <a:ext cx="151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2636280" y="3033720"/>
            <a:ext cx="2949840" cy="2263680"/>
            <a:chOff x="2636280" y="3033720"/>
            <a:chExt cx="2949840" cy="2263680"/>
          </a:xfrm>
        </p:grpSpPr>
        <p:grpSp>
          <p:nvGrpSpPr>
            <p:cNvPr id="104" name=""/>
            <p:cNvGrpSpPr/>
            <p:nvPr/>
          </p:nvGrpSpPr>
          <p:grpSpPr>
            <a:xfrm>
              <a:off x="2636280" y="3033720"/>
              <a:ext cx="1078560" cy="246240"/>
              <a:chOff x="2636280" y="3033720"/>
              <a:chExt cx="1078560" cy="246240"/>
            </a:xfrm>
          </p:grpSpPr>
          <p:sp>
            <p:nvSpPr>
              <p:cNvPr id="105" name=""/>
              <p:cNvSpPr/>
              <p:nvPr/>
            </p:nvSpPr>
            <p:spPr>
              <a:xfrm>
                <a:off x="2636280" y="3033720"/>
                <a:ext cx="72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pidídim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283200" y="31780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789000" y="5051160"/>
              <a:ext cx="1797120" cy="246240"/>
              <a:chOff x="3789000" y="5051160"/>
              <a:chExt cx="1797120" cy="246240"/>
            </a:xfrm>
          </p:grpSpPr>
          <p:sp>
            <p:nvSpPr>
              <p:cNvPr id="108" name=""/>
              <p:cNvSpPr/>
              <p:nvPr/>
            </p:nvSpPr>
            <p:spPr>
              <a:xfrm>
                <a:off x="3789000" y="5051160"/>
                <a:ext cx="72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pidídim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4433760" y="5180040"/>
                <a:ext cx="11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707920" y="3322800"/>
            <a:ext cx="2876040" cy="2149560"/>
            <a:chOff x="2707920" y="3322800"/>
            <a:chExt cx="2876040" cy="2149560"/>
          </a:xfrm>
        </p:grpSpPr>
        <p:grpSp>
          <p:nvGrpSpPr>
            <p:cNvPr id="111" name=""/>
            <p:cNvGrpSpPr/>
            <p:nvPr/>
          </p:nvGrpSpPr>
          <p:grpSpPr>
            <a:xfrm>
              <a:off x="2707920" y="3322800"/>
              <a:ext cx="933480" cy="246240"/>
              <a:chOff x="2707920" y="3322800"/>
              <a:chExt cx="933480" cy="246240"/>
            </a:xfrm>
          </p:grpSpPr>
          <p:sp>
            <p:nvSpPr>
              <p:cNvPr id="112" name=""/>
              <p:cNvSpPr/>
              <p:nvPr/>
            </p:nvSpPr>
            <p:spPr>
              <a:xfrm>
                <a:off x="2707920" y="3322800"/>
                <a:ext cx="65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stícul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3282840" y="346716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853800" y="5226120"/>
              <a:ext cx="1730160" cy="246240"/>
              <a:chOff x="3853800" y="5226120"/>
              <a:chExt cx="1730160" cy="246240"/>
            </a:xfrm>
          </p:grpSpPr>
          <p:sp>
            <p:nvSpPr>
              <p:cNvPr id="115" name=""/>
              <p:cNvSpPr/>
              <p:nvPr/>
            </p:nvSpPr>
            <p:spPr>
              <a:xfrm>
                <a:off x="3853800" y="5226120"/>
                <a:ext cx="65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stícul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4457160" y="5338440"/>
                <a:ext cx="112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4149360" y="2890080"/>
            <a:ext cx="1581120" cy="2838600"/>
            <a:chOff x="4149360" y="2890080"/>
            <a:chExt cx="1581120" cy="2838600"/>
          </a:xfrm>
        </p:grpSpPr>
        <p:grpSp>
          <p:nvGrpSpPr>
            <p:cNvPr id="118" name=""/>
            <p:cNvGrpSpPr/>
            <p:nvPr/>
          </p:nvGrpSpPr>
          <p:grpSpPr>
            <a:xfrm>
              <a:off x="4433760" y="2890080"/>
              <a:ext cx="534600" cy="246240"/>
              <a:chOff x="4433760" y="2890080"/>
              <a:chExt cx="534600" cy="246240"/>
            </a:xfrm>
          </p:grpSpPr>
          <p:sp>
            <p:nvSpPr>
              <p:cNvPr id="119" name=""/>
              <p:cNvSpPr/>
              <p:nvPr/>
            </p:nvSpPr>
            <p:spPr>
              <a:xfrm>
                <a:off x="4507200" y="289008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33760" y="3033720"/>
                <a:ext cx="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149360" y="5482440"/>
              <a:ext cx="1581120" cy="246240"/>
              <a:chOff x="4149360" y="5482440"/>
              <a:chExt cx="1581120" cy="246240"/>
            </a:xfrm>
          </p:grpSpPr>
          <p:sp>
            <p:nvSpPr>
              <p:cNvPr id="122" name=""/>
              <p:cNvSpPr/>
              <p:nvPr/>
            </p:nvSpPr>
            <p:spPr>
              <a:xfrm>
                <a:off x="4149360" y="548244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78120" y="5626080"/>
                <a:ext cx="11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2523960" y="3596400"/>
            <a:ext cx="3062160" cy="2349000"/>
            <a:chOff x="2523960" y="3596400"/>
            <a:chExt cx="3062160" cy="2349000"/>
          </a:xfrm>
        </p:grpSpPr>
        <p:grpSp>
          <p:nvGrpSpPr>
            <p:cNvPr id="125" name=""/>
            <p:cNvGrpSpPr/>
            <p:nvPr/>
          </p:nvGrpSpPr>
          <p:grpSpPr>
            <a:xfrm>
              <a:off x="4075920" y="5699160"/>
              <a:ext cx="1510200" cy="246240"/>
              <a:chOff x="4075920" y="5699160"/>
              <a:chExt cx="1510200" cy="246240"/>
            </a:xfrm>
          </p:grpSpPr>
          <p:sp>
            <p:nvSpPr>
              <p:cNvPr id="126" name=""/>
              <p:cNvSpPr/>
              <p:nvPr/>
            </p:nvSpPr>
            <p:spPr>
              <a:xfrm>
                <a:off x="4075920" y="5699160"/>
                <a:ext cx="596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scro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649760" y="5699160"/>
                <a:ext cx="936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523960" y="3596400"/>
              <a:ext cx="989280" cy="246240"/>
              <a:chOff x="2523960" y="3596400"/>
              <a:chExt cx="989280" cy="246240"/>
            </a:xfrm>
          </p:grpSpPr>
          <p:sp>
            <p:nvSpPr>
              <p:cNvPr id="129" name=""/>
              <p:cNvSpPr/>
              <p:nvPr/>
            </p:nvSpPr>
            <p:spPr>
              <a:xfrm>
                <a:off x="2523960" y="3596400"/>
                <a:ext cx="596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escro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056040" y="3733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tel mo</cp:lastModifiedBy>
  <dcterms:modified xsi:type="dcterms:W3CDTF">2006-07-27T15:34:14Z</dcterms:modified>
  <cp:revision>1</cp:revision>
  <dc:subject/>
  <dc:title>PowerPoint Presentation</dc:title>
</cp:coreProperties>
</file>